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png" ContentType="image/png"/>
  <Override PartName="/ppt/media/image23.png" ContentType="image/png"/>
  <Override PartName="/ppt/media/image28.wmf" ContentType="image/x-wmf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5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9.wmf" ContentType="image/x-wmf"/>
  <Override PartName="/ppt/media/image6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wmf" ContentType="image/x-wmf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465-A247-45FF-8A7F-CA2E5947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397-1DF3-4CCB-99DA-0EB29244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730-C58E-464F-BF9F-283B6010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E54-2858-4301-B7DA-E119E4F6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0D9-06E3-4B47-BD77-4C491772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96F-5BAD-443E-BAFD-3C0454BA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93B-AA5A-45C7-AAAC-9AD5E19D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175-095E-4E1A-A6BF-CC59B5CF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001-09B5-462F-8594-F0A1E6BC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B7B-68B1-474E-A53D-8DE0673D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3B9-7B51-455D-8877-051B7035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17C-2C18-4ACF-BF7A-A6F0B280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DC49-0E37-4443-A2AE-A113E315B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orial 5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t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y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: Introducing Logical Operators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40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5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5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Logical Operator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5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6120" y="3205080"/>
            <a:ext cx="6249960" cy="1314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4000" y="1461960"/>
            <a:ext cx="60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ndard library header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429000" y="4038480"/>
            <a:ext cx="3657600" cy="1738440"/>
            <a:chOff x="3429000" y="4038480"/>
            <a:chExt cx="3657600" cy="1738440"/>
          </a:xfrm>
        </p:grpSpPr>
        <p:sp>
          <p:nvSpPr>
            <p:cNvPr id="76" name=""/>
            <p:cNvSpPr/>
            <p:nvPr/>
          </p:nvSpPr>
          <p:spPr>
            <a:xfrm>
              <a:off x="3962520" y="495288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file enables access to classes and functions defined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3429000" y="403848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60520" y="2795760"/>
            <a:ext cx="6221520" cy="213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14000" y="1461960"/>
            <a:ext cx="589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28600" y="4190760"/>
            <a:ext cx="2666880" cy="1647720"/>
            <a:chOff x="228600" y="4190760"/>
            <a:chExt cx="2666880" cy="1647720"/>
          </a:xfrm>
        </p:grpSpPr>
        <p:sp>
          <p:nvSpPr>
            <p:cNvPr id="82" name=""/>
            <p:cNvSpPr/>
            <p:nvPr/>
          </p:nvSpPr>
          <p:spPr>
            <a:xfrm>
              <a:off x="228600" y="5257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the variables that store user in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09480" y="4190760"/>
              <a:ext cx="1600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li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s a line of text from the input stream (first argument) and puts it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econd argum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is delimited (or terminated) at the first newlin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cessary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put might contain white space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tream extractor operator inputs up to the first white space character or newlin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xample, if the user enters “Bob Green”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line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ould 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Bo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ould 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Bob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ould be left in the in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55840" y="3043080"/>
            <a:ext cx="6230880" cy="163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8680" y="1461960"/>
            <a:ext cx="814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the patient name and 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l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the name into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05520" y="4114440"/>
            <a:ext cx="3809880" cy="1510200"/>
            <a:chOff x="5105520" y="4114440"/>
            <a:chExt cx="3809880" cy="1510200"/>
          </a:xfrm>
        </p:grpSpPr>
        <p:sp>
          <p:nvSpPr>
            <p:cNvPr id="90" name=""/>
            <p:cNvSpPr/>
            <p:nvPr/>
          </p:nvSpPr>
          <p:spPr>
            <a:xfrm>
              <a:off x="6019920" y="48006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for the patient’s name and input the response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t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105520" y="411444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55840" y="2567160"/>
            <a:ext cx="6230880" cy="2590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7600" y="1447920"/>
            <a:ext cx="77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responses for services perform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3962520"/>
            <a:ext cx="2590920" cy="1952280"/>
            <a:chOff x="457200" y="3962520"/>
            <a:chExt cx="2590920" cy="1952280"/>
          </a:xfrm>
        </p:grpSpPr>
        <p:sp>
          <p:nvSpPr>
            <p:cNvPr id="96" name=""/>
            <p:cNvSpPr/>
            <p:nvPr/>
          </p:nvSpPr>
          <p:spPr>
            <a:xfrm>
              <a:off x="457200" y="53341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for and input services perform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85800" y="3962520"/>
              <a:ext cx="14479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55840" y="1905120"/>
            <a:ext cx="6230880" cy="4228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3280" y="1447920"/>
            <a:ext cx="57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total cost for the patient’s vis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962520" y="2666880"/>
            <a:ext cx="4647960" cy="580680"/>
            <a:chOff x="3962520" y="2666880"/>
            <a:chExt cx="4647960" cy="580680"/>
          </a:xfrm>
        </p:grpSpPr>
        <p:sp>
          <p:nvSpPr>
            <p:cNvPr id="102" name=""/>
            <p:cNvSpPr/>
            <p:nvPr/>
          </p:nvSpPr>
          <p:spPr>
            <a:xfrm>
              <a:off x="5638680" y="26668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initialize its valu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3962520" y="2666880"/>
              <a:ext cx="16761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57800" y="4190760"/>
            <a:ext cx="3505320" cy="1190520"/>
            <a:chOff x="5257800" y="4190760"/>
            <a:chExt cx="3505320" cy="1190520"/>
          </a:xfrm>
        </p:grpSpPr>
        <p:sp>
          <p:nvSpPr>
            <p:cNvPr id="105" name=""/>
            <p:cNvSpPr/>
            <p:nvPr/>
          </p:nvSpPr>
          <p:spPr>
            <a:xfrm>
              <a:off x="6324480" y="48006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a service was performed, add its cos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257800" y="419076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55840" y="2886120"/>
            <a:ext cx="6230880" cy="195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11840" y="1447920"/>
            <a:ext cx="51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total cost in dollar form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5800" y="2362320"/>
            <a:ext cx="2514600" cy="1295280"/>
            <a:chOff x="685800" y="2362320"/>
            <a:chExt cx="2514600" cy="1295280"/>
          </a:xfrm>
        </p:grpSpPr>
        <p:sp>
          <p:nvSpPr>
            <p:cNvPr id="111" name=""/>
            <p:cNvSpPr/>
            <p:nvPr/>
          </p:nvSpPr>
          <p:spPr>
            <a:xfrm>
              <a:off x="685800" y="23623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curren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" y="2666880"/>
              <a:ext cx="16765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2560" y="1447920"/>
            <a:ext cx="81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utput with no patient name entered and no services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895120" y="4191120"/>
            <a:ext cx="5258160" cy="1585800"/>
            <a:chOff x="2895120" y="4191120"/>
            <a:chExt cx="5258160" cy="1585800"/>
          </a:xfrm>
        </p:grpSpPr>
        <p:sp>
          <p:nvSpPr>
            <p:cNvPr id="117" name=""/>
            <p:cNvSpPr/>
            <p:nvPr/>
          </p:nvSpPr>
          <p:spPr>
            <a:xfrm>
              <a:off x="5943600" y="49528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 calculates a bill of $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.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hen no services are selec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2895120" y="4191120"/>
              <a:ext cx="43434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3280" y="1447920"/>
            <a:ext cx="79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utput with a service selected, but no patient name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230880" cy="1962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5800" y="1461960"/>
            <a:ext cx="56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62120" y="2895480"/>
            <a:ext cx="3352680" cy="1438200"/>
            <a:chOff x="762120" y="2895480"/>
            <a:chExt cx="3352680" cy="1438200"/>
          </a:xfrm>
        </p:grpSpPr>
        <p:sp>
          <p:nvSpPr>
            <p:cNvPr id="126" name=""/>
            <p:cNvSpPr/>
            <p:nvPr/>
          </p:nvSpPr>
          <p:spPr>
            <a:xfrm>
              <a:off x="762120" y="3996360"/>
              <a:ext cx="3352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erify that a patient name was ent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62120" y="2895480"/>
              <a:ext cx="1676160" cy="11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85800" y="4267080"/>
            <a:ext cx="7769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mpty str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“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no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-access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llows access to an object’s data an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the number of characters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5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to store user input as single charact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to store user input as strings of charact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logical operators to form more complex condi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55840" y="3119400"/>
            <a:ext cx="6230880" cy="1486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3640" y="1447920"/>
            <a:ext cx="52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an error message to the us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33520" y="4191120"/>
            <a:ext cx="2057400" cy="1099080"/>
            <a:chOff x="533520" y="4191120"/>
            <a:chExt cx="2057400" cy="1099080"/>
          </a:xfrm>
        </p:grpSpPr>
        <p:sp>
          <p:nvSpPr>
            <p:cNvPr id="133" name=""/>
            <p:cNvSpPr/>
            <p:nvPr/>
          </p:nvSpPr>
          <p:spPr>
            <a:xfrm>
              <a:off x="533520" y="4952880"/>
              <a:ext cx="1981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an error 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838080" y="4191120"/>
              <a:ext cx="17528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4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5452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16520" y="1461960"/>
            <a:ext cx="51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t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85800" y="1981080"/>
            <a:ext cx="2514600" cy="337320"/>
            <a:chOff x="685800" y="1981080"/>
            <a:chExt cx="2514600" cy="337320"/>
          </a:xfrm>
        </p:grpSpPr>
        <p:sp>
          <p:nvSpPr>
            <p:cNvPr id="139" name=""/>
            <p:cNvSpPr/>
            <p:nvPr/>
          </p:nvSpPr>
          <p:spPr>
            <a:xfrm>
              <a:off x="685800" y="1981080"/>
              <a:ext cx="1523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09680" y="198108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5800" y="5410080"/>
            <a:ext cx="2514600" cy="824040"/>
            <a:chOff x="685800" y="5410080"/>
            <a:chExt cx="2514600" cy="824040"/>
          </a:xfrm>
        </p:grpSpPr>
        <p:sp>
          <p:nvSpPr>
            <p:cNvPr id="142" name=""/>
            <p:cNvSpPr/>
            <p:nvPr/>
          </p:nvSpPr>
          <p:spPr>
            <a:xfrm>
              <a:off x="685800" y="541008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 brace to en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563868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8" dur="1" fill="hold"/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12920" y="1447920"/>
            <a:ext cx="53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utput without a name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12920" y="1447920"/>
            <a:ext cx="81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utput with a name entered, but without any services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038480" y="2438280"/>
            <a:ext cx="3962520" cy="1067040"/>
            <a:chOff x="4038480" y="2438280"/>
            <a:chExt cx="3962520" cy="1067040"/>
          </a:xfrm>
        </p:grpSpPr>
        <p:sp>
          <p:nvSpPr>
            <p:cNvPr id="151" name=""/>
            <p:cNvSpPr/>
            <p:nvPr/>
          </p:nvSpPr>
          <p:spPr>
            <a:xfrm>
              <a:off x="5410080" y="243828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r must now enter a 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038480" y="2666880"/>
              <a:ext cx="13716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819520" y="4191120"/>
            <a:ext cx="5410080" cy="1738440"/>
            <a:chOff x="2819520" y="4191120"/>
            <a:chExt cx="5410080" cy="1738440"/>
          </a:xfrm>
        </p:grpSpPr>
        <p:sp>
          <p:nvSpPr>
            <p:cNvPr id="154" name=""/>
            <p:cNvSpPr/>
            <p:nvPr/>
          </p:nvSpPr>
          <p:spPr>
            <a:xfrm>
              <a:off x="5410080" y="510552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 calculates a bill of $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.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hen a name is entered but no services are selec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819520" y="4191120"/>
              <a:ext cx="30477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84360" y="3352680"/>
            <a:ext cx="77691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conditions combine multiple simple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on evaluate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ly if both operand expressions evaluate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operand is evaluated only if first operand evaluate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hort-circuit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uth table displays the outcome of a complex condition for all possible values for its simple conditio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84360" y="3886200"/>
            <a:ext cx="7769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on evaluate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either or both operand expressions evaluate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operand is evaluated only if first operand evaluate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hort-circuit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85800" y="3581280"/>
            <a:ext cx="7769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on reverses the truth value of the operand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also be written as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2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55840" y="2800440"/>
            <a:ext cx="6230880" cy="2124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0400" y="1461960"/>
            <a:ext cx="468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ultip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gical opera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04920" y="3809880"/>
            <a:ext cx="2514600" cy="1861560"/>
            <a:chOff x="304920" y="3809880"/>
            <a:chExt cx="2514600" cy="1861560"/>
          </a:xfrm>
        </p:grpSpPr>
        <p:sp>
          <p:nvSpPr>
            <p:cNvPr id="172" name=""/>
            <p:cNvSpPr/>
            <p:nvPr/>
          </p:nvSpPr>
          <p:spPr>
            <a:xfrm>
              <a:off x="304920" y="53341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a complex expre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33520" y="3809880"/>
              <a:ext cx="22860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1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55840" y="2871720"/>
            <a:ext cx="6230880" cy="1981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11840" y="1447920"/>
            <a:ext cx="65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an error message if no services are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114440" y="4190760"/>
            <a:ext cx="3200760" cy="1571400"/>
            <a:chOff x="4114440" y="4190760"/>
            <a:chExt cx="3200760" cy="1571400"/>
          </a:xfrm>
        </p:grpSpPr>
        <p:sp>
          <p:nvSpPr>
            <p:cNvPr id="178" name=""/>
            <p:cNvSpPr/>
            <p:nvPr/>
          </p:nvSpPr>
          <p:spPr>
            <a:xfrm>
              <a:off x="4800600" y="51814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an error message to the body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4114440" y="4190760"/>
              <a:ext cx="16765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160720" y="1752480"/>
            <a:ext cx="482112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17240" y="1461960"/>
            <a:ext cx="59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t to the nest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133720"/>
            <a:ext cx="15242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4876920"/>
            <a:ext cx="2819520" cy="685800"/>
            <a:chOff x="228600" y="4876920"/>
            <a:chExt cx="2819520" cy="685800"/>
          </a:xfrm>
        </p:grpSpPr>
        <p:sp>
          <p:nvSpPr>
            <p:cNvPr id="186" name=""/>
            <p:cNvSpPr/>
            <p:nvPr/>
          </p:nvSpPr>
          <p:spPr>
            <a:xfrm>
              <a:off x="228600" y="48769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 brace to end the nes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19520" y="51055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9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10760" y="1447920"/>
            <a:ext cx="64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2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application with incorrect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52480" y="4038480"/>
            <a:ext cx="56102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11480" y="1447920"/>
            <a:ext cx="62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2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application with correct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934320" y="838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ntalPayment.cpp 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505320" y="1676520"/>
            <a:ext cx="4724280" cy="1523880"/>
            <a:chOff x="3505320" y="1676520"/>
            <a:chExt cx="4724280" cy="1523880"/>
          </a:xfrm>
        </p:grpSpPr>
        <p:sp>
          <p:nvSpPr>
            <p:cNvPr id="199" name=""/>
            <p:cNvSpPr/>
            <p:nvPr/>
          </p:nvSpPr>
          <p:spPr>
            <a:xfrm>
              <a:off x="6629400" y="16765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505320" y="1828800"/>
              <a:ext cx="31240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742840" y="4876920"/>
            <a:ext cx="4572360" cy="1175400"/>
            <a:chOff x="2742840" y="4876920"/>
            <a:chExt cx="4572360" cy="1175400"/>
          </a:xfrm>
        </p:grpSpPr>
        <p:sp>
          <p:nvSpPr>
            <p:cNvPr id="202" name=""/>
            <p:cNvSpPr/>
            <p:nvPr/>
          </p:nvSpPr>
          <p:spPr>
            <a:xfrm>
              <a:off x="5410080" y="571500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tain patient 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2840" y="4876920"/>
              <a:ext cx="2971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3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934320" y="838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ntalPayment.cpp 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286000" y="685800"/>
            <a:ext cx="6324480" cy="1738440"/>
            <a:chOff x="2286000" y="685800"/>
            <a:chExt cx="6324480" cy="1738440"/>
          </a:xfrm>
        </p:grpSpPr>
        <p:sp>
          <p:nvSpPr>
            <p:cNvPr id="208" name=""/>
            <p:cNvSpPr/>
            <p:nvPr/>
          </p:nvSpPr>
          <p:spPr>
            <a:xfrm>
              <a:off x="5638680" y="16002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determine whether the user entered a 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2286000" y="685800"/>
              <a:ext cx="4952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2" dur="1" fill="hold"/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934320" y="838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ntalPayment.cpp 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200040" y="533160"/>
            <a:ext cx="5334480" cy="1967400"/>
            <a:chOff x="3200040" y="533160"/>
            <a:chExt cx="5334480" cy="1967400"/>
          </a:xfrm>
        </p:grpSpPr>
        <p:sp>
          <p:nvSpPr>
            <p:cNvPr id="214" name=""/>
            <p:cNvSpPr/>
            <p:nvPr/>
          </p:nvSpPr>
          <p:spPr>
            <a:xfrm>
              <a:off x="5867280" y="16765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multiple logical operators to determine whether any services were selec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200040" y="533160"/>
              <a:ext cx="4419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1" dur="1" fill="hold"/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6934320" y="838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ntalPayment.cpp 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600200"/>
            <a:ext cx="3810240" cy="914400"/>
            <a:chOff x="3733560" y="1600200"/>
            <a:chExt cx="3810240" cy="914400"/>
          </a:xfrm>
        </p:grpSpPr>
        <p:sp>
          <p:nvSpPr>
            <p:cNvPr id="220" name=""/>
            <p:cNvSpPr/>
            <p:nvPr/>
          </p:nvSpPr>
          <p:spPr>
            <a:xfrm>
              <a:off x="5334120" y="16002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mat and display 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33560" y="1905120"/>
              <a:ext cx="1600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114440" y="1905120"/>
              <a:ext cx="1219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0" dur="1" fill="hold"/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4360" y="1447920"/>
            <a:ext cx="607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tal Pay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before input is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3640" y="1447920"/>
            <a:ext cx="65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message displays when no patient name is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5800" y="4038120"/>
            <a:ext cx="1371600" cy="1557000"/>
            <a:chOff x="685800" y="4038120"/>
            <a:chExt cx="1371600" cy="1557000"/>
          </a:xfrm>
        </p:grpSpPr>
        <p:sp>
          <p:nvSpPr>
            <p:cNvPr id="56" name=""/>
            <p:cNvSpPr/>
            <p:nvPr/>
          </p:nvSpPr>
          <p:spPr>
            <a:xfrm>
              <a:off x="685800" y="525780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rror 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914400" y="4038120"/>
              <a:ext cx="9907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" y="1447920"/>
            <a:ext cx="63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message displays when no services are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4343040"/>
            <a:ext cx="1371600" cy="1557000"/>
            <a:chOff x="685800" y="4343040"/>
            <a:chExt cx="1371600" cy="1557000"/>
          </a:xfrm>
        </p:grpSpPr>
        <p:sp>
          <p:nvSpPr>
            <p:cNvPr id="62" name=""/>
            <p:cNvSpPr/>
            <p:nvPr/>
          </p:nvSpPr>
          <p:spPr>
            <a:xfrm>
              <a:off x="685800" y="556272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rror 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9907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4000" y="1447920"/>
            <a:ext cx="789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tal Pay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with input entered and total cost o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single character constant (or literal)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se values are stored as integer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rding to the ASCII character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string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in the C++ Standard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includ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initialized with an integer or character cons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ssigned a character constan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9:03:21Z</dcterms:created>
  <dc:creator>Jeffrey Peng</dc:creator>
  <dc:description/>
  <dc:language>en-US</dc:language>
  <cp:lastModifiedBy>Pearson Education</cp:lastModifiedBy>
  <dcterms:modified xsi:type="dcterms:W3CDTF">2004-10-11T14:11:15Z</dcterms:modified>
  <cp:revision>104</cp:revision>
  <dc:subject/>
  <dc:title>Tutorial 5 – Dental Payment Application: Introducing Logical Operators, chars and strings</dc:title>
</cp:coreProperties>
</file>